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4BA0-82CD-44EF-AEE6-D281D5A77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769A-2BA7-483D-84DF-962630EF5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B325D8-A3A8-4781-9079-32CE1500D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3C7078-5419-49A9-B6D0-EAEFC2483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FB6616-6F0F-42A3-A610-57B1E6BB7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5B4353-018B-47DE-B160-BCE1A9A6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288888-C9BF-4128-9E46-BD818B31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28D375-6FDD-443A-AF44-330A97A6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9CCE9B-5961-476F-BD10-EA6C6EB02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239863-D50A-4EC5-B3C4-CB24015C4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91813D-9F80-4F9B-B84E-ECD0EDD8D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C4A127-93ED-45FC-BED8-D0813FF32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FE96-007A-4E87-B4AC-0C38EDB46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658D46-D2AF-41B3-BE7E-51F09ED90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6BB74D-B491-4710-BB44-3198CD505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954468-BA15-466A-BF38-01A636F23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3BF6F7-5615-4CAC-9B53-6360AF38F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28E4C0-590C-4485-98F0-05FCDB885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93BC25-3830-43B6-8DEE-7688D369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7987F0-416F-42F0-AA08-CE66C329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5FB18F-245E-4A54-898D-DF5C1C22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E76045-BF4A-4A18-91E8-08BDE5600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66147C-0F78-40B2-85C0-B87AAB7C7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4A97-2855-45E2-9916-C4A31541A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8351E5-37C4-489B-92E4-4FEC9DF91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6200E9-DCE5-420B-981E-70E79327A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3C630B-3339-4EEB-BBE1-3C355A0CE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4A71D4-E3A3-417B-AC67-9C73A6B91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1536C6-5C66-4BB1-91DC-00F6C7DF0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6308A7-48B5-4558-A189-AD6A2DCEA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7DEDF6-52F9-485E-AD03-2AF4DD5F3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92B607-74C5-4262-ABA1-21D805A9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EEA768-CFF3-4C71-B35E-6CC38E24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108021-6461-4D39-B3C6-C4427C7B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0E2CD0-32DC-4410-B603-0D932EDAF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E4A940-E72E-46F0-B478-B564547E4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1A8123-FB68-417C-8914-5EBE95274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78CAE6-A8A4-4357-AD5C-00AEC50DC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AD0D47-C3AA-40F8-B978-80E972332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95D88D-1D4A-4859-80C3-85035FB3A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4FF17F-90BA-4B2A-8535-3E0C333FA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291976-E3EB-440B-A39F-4883EABB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5B06A2-3C70-48CD-BA9C-7FB68144A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706A68-1892-46C6-9F9C-2C75817E3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6C5966-B49B-4629-BB39-2AF17E52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201641-203D-48CD-BB2B-5BC29364D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57020B-6A69-4C24-8B62-83FB03DC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01C9CA-9BA0-424B-8F94-F34458A1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2306C7-CA41-45D0-89F7-D14984808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2D9E14-A36D-4B6D-84BD-9AFC8BFEC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BA4EAD-A66A-4BA5-B05E-42E62BFEE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2D493E-F0A5-4F24-8F82-78807A93C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31DE6F-1DD2-4E16-B86F-17E061CFB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501FAB-D4A1-49EB-AB16-35F178317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174382-CA3B-4172-B925-19BA12B92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034642-25D7-4919-863F-808842024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BEC4B8-B3E7-4AD5-AF4F-CC70BC8B4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689C98-DE0C-4242-A6AC-BB75FA03E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77832C-98D7-43A0-A32F-50B811AE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5C9BAF-6E93-4D6C-AD03-CA57B958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22F591-DAB4-4BE5-AC98-A44FDD81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C1DA08-F431-4249-B0B9-DA121E607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B4354C-BDA4-4E62-B3BA-9D5C13905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A3E8EE-9CEF-4CFD-B96A-32AE6CE44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FAD304-4D05-4114-8DC1-B306CE661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224F3C-85C0-4E99-A8A7-BB95ECF71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7F56F7-7BED-4F8B-B855-FCC570203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1C2E41-EFDC-422A-9333-31FF2ED27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42F0D1-2A8B-433B-BDE8-08C885250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31D54E-F4E0-4F6F-BBE7-CF83267E4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B03080-94B9-487E-8497-B727E52CD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304F71-1434-456E-A605-8D250D58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60192D-C3EB-490A-882A-D57AE8DB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EF187C-7DB1-44B8-84A8-4DE68BF3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B07509-46EF-4114-A5B2-E909F683B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5F2ABB-2B73-4EC1-B1BF-868D79382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DF25F7-D16B-402C-B2B7-C15039E3D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0A1511-2FE3-4ADC-9064-49851A81A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5363E4-549B-4A28-AE76-0D5DFD9A2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3636F2-3F08-4B30-A1FF-229018CA9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2DAF60-0C97-473C-8D37-C6BAE4091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0322F4-5E12-4142-8590-6FADBCE19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E2F489-685D-4F78-A9EC-C7CA9D0EC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D40B73-CB0E-4E9B-B15E-575E0AEB1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74C1A3-B562-4A81-9C15-F06A048C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131075-C16C-4466-B1C8-117C42A9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049CC6-15E8-46FB-8C50-7775D0B5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7FC0D8-15A8-474B-B1F6-1551F022F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8B681F-390F-457D-B875-161FC1F1E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4FA0BA-F61A-4592-A849-97009D70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6C3A57-2CAF-4612-B335-7F6D5C10A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8C19F7-FEC8-46B6-9C92-4940335AB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36EDD0-44F5-46E3-9CBD-208392C32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532450-B62E-41B3-84AD-CA1DC4667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898A81-CF64-430C-A196-4A5ECA971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99D5A0-2560-47F0-8136-D5C248DBC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41F88D-B00C-49CF-90EA-8588CB014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9B8209-F227-4625-95F2-AB79AD94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23BB98-3AB7-4384-B700-F647E8B0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EEECCD-766D-4603-BE1A-FC75FF3F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343758-EDEF-4F5D-82EB-B5D742F6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E2BDC2-91E5-48EB-B83A-E825C0D09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09ACF3-6D93-4E90-96D2-03D3EC166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C45495-8ADB-40CF-81CE-337321DE4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4A2904-541C-4B2E-9280-092C1990C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8A5654-D2A0-4D3B-B4BD-0309EDD2E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D58F48-5E53-4A7E-A6CA-730D482D0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E7DF8D-F90A-4C02-AB0B-190CAE998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CAB2D6-0A65-407F-A793-0A2F06ABE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8AD5C6-CB95-4E4C-ABD4-5FB6EC73B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7CA065-0057-43BD-9FB3-3B89413B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0A3E-1157-443C-89C1-4991B9E80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A14F71-F987-4B0E-9C3C-B30938AA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876095-EB89-4A97-A627-595B16DE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227E8F-97EE-44F8-8FC3-B90BA90B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8EF921-2178-4237-A029-188969A67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8BF442-13F8-4904-B824-BD78A2450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B055EB-93F1-497F-8CC9-7A05C3593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8D59DC-3748-47E0-83B4-7F62655FC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F30F99-5F0F-4D18-BDF5-CF2A3C2B2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E284D7-816D-44DF-A16E-E5B684A7D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F2FC28-0D16-435A-A534-F59D496ED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61DD2C-ECAD-471D-8C75-14057437A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FC8F85-F0A8-435C-A469-EEFFC888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FA2CF3-509D-48CD-AF5B-C4B269013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F3FDC9-C7A6-4FFF-878A-8D848A99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1DA046-EAD1-43C7-A6F8-3FE2966C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6BD455-F294-4180-BB1B-44C21563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BF7F32-8484-432C-9D7B-5E0897EAB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475461-5EEF-4ADF-8272-A37208D7C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64AA35-0307-47DA-85B4-F0D9B007C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E3FF53-7A73-46B2-8D9F-0532CD66A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330E17-B0E6-4671-BCFA-416CD0D00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936FC4-55E9-4A2F-9529-CAB7D8A25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BB4E52-500A-4836-880B-F83A8093E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52D053-88F7-4E03-BBD3-15D95E9F6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99814B-97DA-456B-804E-04C89B316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7B800E-2EA0-43E2-ACBC-E6C505F97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33A377-5B45-4E16-BBA2-90453002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A35568-F8FC-4F88-8DED-708F2A8F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035EAD-C734-4F98-8359-C062CAF9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C12CE2-9792-47CC-B2B3-2E7617653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EAD85C-C57C-4454-977E-8D3AEE7CB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A0C332-F63A-432F-A888-39FD757FB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E840DA-0F06-4BCC-AB9D-CF3307644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743488-F3ED-4B11-8B64-531C3C6D8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34976-C7CD-47A9-97DB-4EC42479D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1D69A-83FA-4E37-BC59-56CA557A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B8407-7598-4D6D-8F9C-E2BC7BEBC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EF822-7937-4669-8F35-54A248658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18661-B5C1-4E7F-B6EC-36084663E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156F-D6D9-4954-9BED-DEC52C325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98F45-7711-4DC8-9341-FD41B5BB0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4DAC5-3845-4BCF-B2B4-9056C4AF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2BF42-2876-4E1C-A09F-37C916F7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BEDDE-8621-4CA8-B58D-EDC2C9F5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CE132-B1D8-4CB4-946F-068BF7F6F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FCACF-4D81-4C00-A3D6-E4E8098AE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E7CE3-01B7-4FCC-8271-26574C5B1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EFF41-C3F8-4BF1-8F1C-DBE042624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26EE4-720C-4A2C-A747-3B31E39DC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1E472-9B76-4717-AEC5-42069100F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AE9D-ABBF-4408-BFE1-7F9F70BCE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4077B-F2B0-49E3-8672-7DE89CD86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6F40A-AA4C-4323-ADC9-7F556DDC0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DF2FF-0E9F-4AAF-95B0-1635F482F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DE659-CB98-4E68-A909-EA14581A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0E281-590E-44F8-9323-1B9FFE16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3881F-09BE-4A49-A07B-ADBF2D5E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21B1F-97DD-4D79-A01A-2F86258DF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C9911-6AD3-4D01-BC57-A22234F36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D5C20-4175-4CD9-8DE5-64F392FE5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47D559-5C89-4C7A-B8F9-68578065B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E583-5AFC-465D-BBAF-045F18347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824F07-FF67-4F85-B4CF-5C5787324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D53CF6-00D8-432F-8838-889FE3F20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0C7735-60FE-4C51-968D-058463C57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7773FA-37EC-48F4-9BC0-E33CF49A5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B09462-DB58-4CE5-B673-ADB431325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8BE930-47AE-43C1-825B-7883F1DB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77030C-3142-404C-9A33-08CB07FF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C799D8-E09F-4432-B6D7-FD77487D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1CB58B-68BE-47E4-9963-A213468F3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BD07C9-B958-4952-9CE8-3ED0EC6A1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A5A8-BAEA-46AC-9470-F70DFF380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607971-CF55-4D54-8C83-B2F324BB2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968AC-EF33-44BB-92BC-F54D9D50C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E0286-D28B-44AE-8274-4C81B5BB4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029B6-18E2-4640-9EAF-72DF88F58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2284C-6521-4A4A-934E-C5814F7F1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54F979-59EA-4B77-8815-02A38000C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53770-6EED-4699-AA79-CF53BB981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30C8B-E35B-400B-BA64-54CA0A95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4214A-8C7B-4E93-8950-91D79D6F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CDAC4-AC8E-4C39-9941-88D8F677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A705-08C0-4865-A239-6504D76B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E436C-20E0-45A7-A5D9-DF7D07DBC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FC77BE-2D15-4E0E-88C2-F8B603C93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1A0EF-0C2B-4797-A67E-A2ED76F4F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407D18-9210-4C31-88F2-C9DCD74FC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2BBB6D-A67C-49AA-B2AF-CD7D3DD35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625AA-2C16-45BB-A5ED-E91907F3B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599277-D58B-4339-810C-72D65E999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85A13-86EB-4A2D-8AB0-C1599A693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6A3530-6C08-4F22-8EC3-FA76237D6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C3199D-CDA4-4C07-8CE8-B8BEA355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999B-6DDC-4400-8E59-CA8A3A5B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1470D0-D8B5-45B4-AE5F-418A0D5E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8A7A9-3724-4CAC-A4FF-4EE5F079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AE509-FE2A-49F3-95FF-18D7A0391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EBC8DC-1287-4252-942D-F56E069D9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7BAEAF-0406-4688-90D5-309736291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C1F2D-61E7-443A-87DA-AA2B9BDDF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252288-994A-48BA-BBEC-45CABFAC3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65DBA-7EA6-4198-8DB2-E65A06614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52F3FF-D9B8-4531-AF41-B30E25F81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4F21A7-3E12-4B64-B42E-A4C3750E1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6CCB-539F-4EEE-A78D-06DC9C33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3E34BC-359C-444D-A312-2007D4B2D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C5AFD9-A0EE-44B9-BC58-E946C195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4F7D6F-B586-40A2-BAED-5C1DC065A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AEC9F5-15E2-4797-824A-0272066C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953D29-A670-420A-A7AC-3B0CB8170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61556B-C8C9-4EDB-8431-9856926B6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C3CC73-CF2A-43F6-ABC2-C0E2028A3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E05F73-9D6A-43E7-AAC5-045B59441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2A6AAD-DA74-4E43-9E20-B6A417F30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CD0C36-C810-4B64-995E-11FFF0306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73.xml"/><Relationship Id="rId35" Type="http://schemas.openxmlformats.org/officeDocument/2006/relationships/slideLayout" Target="../slideLayouts/slideLayout74.xml"/><Relationship Id="rId36" Type="http://schemas.openxmlformats.org/officeDocument/2006/relationships/slideLayout" Target="../slideLayouts/slideLayout75.xml"/><Relationship Id="rId37" Type="http://schemas.openxmlformats.org/officeDocument/2006/relationships/slideLayout" Target="../slideLayouts/slideLayout76.xml"/><Relationship Id="rId38" Type="http://schemas.openxmlformats.org/officeDocument/2006/relationships/slideLayout" Target="../slideLayouts/slideLayout77.xml"/><Relationship Id="rId39" Type="http://schemas.openxmlformats.org/officeDocument/2006/relationships/slideLayout" Target="../slideLayouts/slideLayout78.xml"/><Relationship Id="rId40" Type="http://schemas.openxmlformats.org/officeDocument/2006/relationships/slideLayout" Target="../slideLayouts/slideLayout79.xml"/><Relationship Id="rId41" Type="http://schemas.openxmlformats.org/officeDocument/2006/relationships/slideLayout" Target="../slideLayouts/slideLayout80.xml"/><Relationship Id="rId42" Type="http://schemas.openxmlformats.org/officeDocument/2006/relationships/slideLayout" Target="../slideLayouts/slideLayout81.xml"/><Relationship Id="rId43" Type="http://schemas.openxmlformats.org/officeDocument/2006/relationships/slideLayout" Target="../slideLayouts/slideLayout82.xml"/><Relationship Id="rId44" Type="http://schemas.openxmlformats.org/officeDocument/2006/relationships/slideLayout" Target="../slideLayouts/slideLayout83.xml"/><Relationship Id="rId4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85.xml"/><Relationship Id="rId32" Type="http://schemas.openxmlformats.org/officeDocument/2006/relationships/slideLayout" Target="../slideLayouts/slideLayout86.xml"/><Relationship Id="rId33" Type="http://schemas.openxmlformats.org/officeDocument/2006/relationships/slideLayout" Target="../slideLayouts/slideLayout87.xml"/><Relationship Id="rId34" Type="http://schemas.openxmlformats.org/officeDocument/2006/relationships/slideLayout" Target="../slideLayouts/slideLayout88.xml"/><Relationship Id="rId35" Type="http://schemas.openxmlformats.org/officeDocument/2006/relationships/slideLayout" Target="../slideLayouts/slideLayout89.xml"/><Relationship Id="rId36" Type="http://schemas.openxmlformats.org/officeDocument/2006/relationships/slideLayout" Target="../slideLayouts/slideLayout90.xml"/><Relationship Id="rId37" Type="http://schemas.openxmlformats.org/officeDocument/2006/relationships/slideLayout" Target="../slideLayouts/slideLayout91.xml"/><Relationship Id="rId38" Type="http://schemas.openxmlformats.org/officeDocument/2006/relationships/slideLayout" Target="../slideLayouts/slideLayout92.xml"/><Relationship Id="rId39" Type="http://schemas.openxmlformats.org/officeDocument/2006/relationships/slideLayout" Target="../slideLayouts/slideLayout93.xml"/><Relationship Id="rId40" Type="http://schemas.openxmlformats.org/officeDocument/2006/relationships/slideLayout" Target="../slideLayouts/slideLayout94.xml"/><Relationship Id="rId41" Type="http://schemas.openxmlformats.org/officeDocument/2006/relationships/slideLayout" Target="../slideLayouts/slideLayout95.xml"/><Relationship Id="rId42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B86C6-B6B5-4999-8B8D-DA3D2B5E24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8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8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5" name="PlaceHolder 1"/>
          <p:cNvSpPr>
            <a:spLocks noGrp="1"/>
          </p:cNvSpPr>
          <p:nvPr>
            <p:ph type="dt" idx="28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ftr" idx="29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sldNum" idx="30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F3C46-D747-47C3-A0FF-894A32EEA76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5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626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77E39-BA75-4AFC-8205-ADD7F9A41CD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1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02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6" name="PlaceHolder 1"/>
          <p:cNvSpPr>
            <a:spLocks noGrp="1"/>
          </p:cNvSpPr>
          <p:nvPr>
            <p:ph type="dt" idx="3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ftr" idx="3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 type="sldNum" idx="3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42D48-88C1-4D56-93E8-0EC488DCDA7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6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777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762DA-8B39-4D7F-B8AC-2B08DD1BC86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3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824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0" name="PlaceHolder 1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7BC77-D7E3-496E-93B2-9B754C191D8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 type="dt" idx="4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 type="ftr" idx="4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 type="sldNum" idx="4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AFFC6-6A8D-4A24-8645-9724A1CF3F8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1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2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2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92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2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dt" idx="46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ftr" idx="4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sldNum" idx="48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A0ED5-1AAA-461C-A4A6-C92D42C9CF5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D6B78-1FEE-431F-81B9-F65CC3097BC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 type="dt" idx="5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 type="ftr" idx="5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53658-79E3-4F75-A69E-CA7E5E25B6B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177BC-D269-4F70-8BA5-52367E4A00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CC258-009B-45DE-A170-54CE0D9747C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23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157EB-9C32-46AD-8BE4-7842718205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83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26275-2978-4531-82D4-10F1C3714E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B24F9-07A5-47B1-9047-8217A9ABF54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4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4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9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9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dt" idx="16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ftr" idx="17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sldNum" idx="18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571D2-4D8D-4E0D-893F-0FB38717FF8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4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4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4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4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4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5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6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6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8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F9A4E-350D-4F93-8B9D-19C47272C8A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4"/>
    <p:sldLayoutId id="2147483728" r:id="rId35"/>
    <p:sldLayoutId id="2147483729" r:id="rId36"/>
    <p:sldLayoutId id="2147483730" r:id="rId37"/>
    <p:sldLayoutId id="2147483731" r:id="rId38"/>
    <p:sldLayoutId id="2147483732" r:id="rId39"/>
    <p:sldLayoutId id="2147483733" r:id="rId40"/>
    <p:sldLayoutId id="2147483734" r:id="rId41"/>
    <p:sldLayoutId id="2147483735" r:id="rId42"/>
    <p:sldLayoutId id="2147483736" r:id="rId43"/>
    <p:sldLayoutId id="2147483737" r:id="rId44"/>
    <p:sldLayoutId id="2147483738" r:id="rId4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43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44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44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44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44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4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45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6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46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8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dt" idx="22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ftr" idx="23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sldNum" idx="24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8273E-86AB-4F4F-B646-64B45548684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1"/>
    <p:sldLayoutId id="2147483741" r:id="rId32"/>
    <p:sldLayoutId id="2147483742" r:id="rId33"/>
    <p:sldLayoutId id="2147483743" r:id="rId34"/>
    <p:sldLayoutId id="2147483744" r:id="rId35"/>
    <p:sldLayoutId id="2147483745" r:id="rId36"/>
    <p:sldLayoutId id="2147483746" r:id="rId37"/>
    <p:sldLayoutId id="2147483747" r:id="rId38"/>
    <p:sldLayoutId id="2147483748" r:id="rId39"/>
    <p:sldLayoutId id="2147483749" r:id="rId40"/>
    <p:sldLayoutId id="2147483750" r:id="rId41"/>
    <p:sldLayoutId id="2147483751" r:id="rId42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1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532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533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5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36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25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2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27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C293E-FBBC-467F-A5B9-F3AFA85158E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9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1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9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2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4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7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Mi Magnifica Mansi</a:t>
            </a:r>
            <a:r>
              <a:rPr b="0" lang="en-US" sz="5400" spc="-1" strike="noStrike">
                <a:solidFill>
                  <a:srgbClr val="e3e3ff"/>
                </a:solidFill>
                <a:latin typeface="Arial"/>
                <a:ea typeface="Arial"/>
              </a:rPr>
              <a:t>ó</a:t>
            </a: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n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 type="subTitle"/>
          </p:nvPr>
        </p:nvSpPr>
        <p:spPr>
          <a:xfrm>
            <a:off x="1676520" y="1980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: Swathi Gorantl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6" name="" descr="luxury residence spa house architecture Luxury House Spa Design Residential Singapore by Guz Architects"/>
          <p:cNvPicPr/>
          <p:nvPr/>
        </p:nvPicPr>
        <p:blipFill>
          <a:blip r:embed="rId1"/>
          <a:stretch/>
        </p:blipFill>
        <p:spPr>
          <a:xfrm>
            <a:off x="2209680" y="2647800"/>
            <a:ext cx="4876920" cy="390708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Es Un Garaje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0" name="" descr=""/>
          <p:cNvPicPr/>
          <p:nvPr/>
        </p:nvPicPr>
        <p:blipFill>
          <a:blip r:embed="rId1"/>
          <a:stretch/>
        </p:blipFill>
        <p:spPr>
          <a:xfrm>
            <a:off x="4724280" y="3048120"/>
            <a:ext cx="3686400" cy="2760480"/>
          </a:xfrm>
          <a:prstGeom prst="rect">
            <a:avLst/>
          </a:prstGeom>
          <a:ln w="0">
            <a:noFill/>
          </a:ln>
        </p:spPr>
      </p:pic>
      <p:sp>
        <p:nvSpPr>
          <p:cNvPr id="1131" name=""/>
          <p:cNvSpPr/>
          <p:nvPr/>
        </p:nvSpPr>
        <p:spPr>
          <a:xfrm>
            <a:off x="1295280" y="289548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 garaje es grande y moder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3000"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8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914400" y="2895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e3e3ff"/>
                </a:solidFill>
                <a:latin typeface="Arial"/>
              </a:rPr>
              <a:t>Adiós y Gracias</a:t>
            </a:r>
            <a:endParaRPr b="0" lang="en-US" sz="5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 spd="med" advTm="3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 Una Mans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8" name="" descr="luxury residence spa house architecture Luxury House Spa Design Residential Singapore by Guz Architects"/>
          <p:cNvPicPr/>
          <p:nvPr/>
        </p:nvPicPr>
        <p:blipFill>
          <a:blip r:embed="rId1"/>
          <a:stretch/>
        </p:blipFill>
        <p:spPr>
          <a:xfrm>
            <a:off x="3581280" y="2057400"/>
            <a:ext cx="4618080" cy="4083120"/>
          </a:xfrm>
          <a:prstGeom prst="rect">
            <a:avLst/>
          </a:prstGeom>
          <a:ln w="0">
            <a:noFill/>
          </a:ln>
        </p:spPr>
      </p:pic>
      <p:sp>
        <p:nvSpPr>
          <p:cNvPr id="1099" name=""/>
          <p:cNvSpPr/>
          <p:nvPr/>
        </p:nvSpPr>
        <p:spPr>
          <a:xfrm>
            <a:off x="914400" y="2895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sión es grande, bonita, y lujo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3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s Una Sal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609480" y="266688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 sala es lujosa, bonita, y bella. N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2" name="" descr="lavish elegant living room design ideas Luxury House Spa Design Residential Singapore by Guz Architects"/>
          <p:cNvPicPr/>
          <p:nvPr/>
        </p:nvPicPr>
        <p:blipFill>
          <a:blip r:embed="rId1"/>
          <a:stretch/>
        </p:blipFill>
        <p:spPr>
          <a:xfrm>
            <a:off x="4038480" y="2819520"/>
            <a:ext cx="4762800" cy="330516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Es Una Cocin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105" name="" descr="pedini integra round kitchen2 Round Modern Kitchen Countetops from Pedini"/>
          <p:cNvPicPr/>
          <p:nvPr/>
        </p:nvPicPr>
        <p:blipFill>
          <a:blip r:embed="rId1"/>
          <a:stretch/>
        </p:blipFill>
        <p:spPr>
          <a:xfrm>
            <a:off x="2819520" y="2438280"/>
            <a:ext cx="4667040" cy="3114720"/>
          </a:xfrm>
          <a:prstGeom prst="rect">
            <a:avLst/>
          </a:prstGeom>
          <a:ln w="0">
            <a:noFill/>
          </a:ln>
        </p:spPr>
      </p:pic>
      <p:sp>
        <p:nvSpPr>
          <p:cNvPr id="1106" name=""/>
          <p:cNvSpPr/>
          <p:nvPr/>
        </p:nvSpPr>
        <p:spPr>
          <a:xfrm>
            <a:off x="914400" y="2895480"/>
            <a:ext cx="16765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 granda, moderna, y boni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3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s Un Comedor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9" name="" descr=""/>
          <p:cNvPicPr/>
          <p:nvPr/>
        </p:nvPicPr>
        <p:blipFill>
          <a:blip r:embed="rId1"/>
          <a:stretch/>
        </p:blipFill>
        <p:spPr>
          <a:xfrm>
            <a:off x="3338640" y="2505240"/>
            <a:ext cx="4510080" cy="3377880"/>
          </a:xfrm>
          <a:prstGeom prst="rect">
            <a:avLst/>
          </a:prstGeom>
          <a:ln w="0">
            <a:noFill/>
          </a:ln>
        </p:spPr>
      </p:pic>
      <p:sp>
        <p:nvSpPr>
          <p:cNvPr id="1110" name=""/>
          <p:cNvSpPr/>
          <p:nvPr/>
        </p:nvSpPr>
        <p:spPr>
          <a:xfrm>
            <a:off x="914400" y="2895480"/>
            <a:ext cx="17524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 comedor bella, lujosa, y fabulo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3000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s Un Ba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Arial"/>
              </a:rPr>
              <a:t>ñ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12" name="" descr=""/>
          <p:cNvPicPr/>
          <p:nvPr/>
        </p:nvPicPr>
        <p:blipFill>
          <a:blip r:embed="rId1"/>
          <a:stretch/>
        </p:blipFill>
        <p:spPr>
          <a:xfrm>
            <a:off x="5334120" y="3733920"/>
            <a:ext cx="3276360" cy="2806560"/>
          </a:xfrm>
          <a:prstGeom prst="rect">
            <a:avLst/>
          </a:prstGeom>
          <a:ln w="0">
            <a:noFill/>
          </a:ln>
        </p:spPr>
      </p:pic>
      <p:sp>
        <p:nvSpPr>
          <p:cNvPr id="1113" name=""/>
          <p:cNvSpPr/>
          <p:nvPr/>
        </p:nvSpPr>
        <p:spPr>
          <a:xfrm>
            <a:off x="4038480" y="3200400"/>
            <a:ext cx="1752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1981080" y="28954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 b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ñ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ello, lujoso, y boni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1143000" y="26668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 advTm="3000">
    <p:random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Es Un Cuatro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1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8" name="" descr=""/>
          <p:cNvPicPr/>
          <p:nvPr/>
        </p:nvPicPr>
        <p:blipFill>
          <a:blip r:embed="rId1"/>
          <a:stretch/>
        </p:blipFill>
        <p:spPr>
          <a:xfrm>
            <a:off x="3429000" y="2286000"/>
            <a:ext cx="4800600" cy="3595680"/>
          </a:xfrm>
          <a:prstGeom prst="rect">
            <a:avLst/>
          </a:prstGeom>
          <a:ln w="0">
            <a:noFill/>
          </a:ln>
        </p:spPr>
      </p:pic>
      <p:sp>
        <p:nvSpPr>
          <p:cNvPr id="1119" name=""/>
          <p:cNvSpPr/>
          <p:nvPr/>
        </p:nvSpPr>
        <p:spPr>
          <a:xfrm>
            <a:off x="762120" y="2819520"/>
            <a:ext cx="2133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 cuarto fabulosa, lujosa, y modern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3000">
    <p:random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s Un Pati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2" name="" descr=""/>
          <p:cNvPicPr/>
          <p:nvPr/>
        </p:nvPicPr>
        <p:blipFill>
          <a:blip r:embed="rId1"/>
          <a:stretch/>
        </p:blipFill>
        <p:spPr>
          <a:xfrm>
            <a:off x="4495680" y="2971800"/>
            <a:ext cx="4219560" cy="3160800"/>
          </a:xfrm>
          <a:prstGeom prst="rect">
            <a:avLst/>
          </a:prstGeom>
          <a:ln w="0">
            <a:noFill/>
          </a:ln>
        </p:spPr>
      </p:pic>
      <p:sp>
        <p:nvSpPr>
          <p:cNvPr id="1123" name=""/>
          <p:cNvSpPr/>
          <p:nvPr/>
        </p:nvSpPr>
        <p:spPr>
          <a:xfrm>
            <a:off x="914400" y="358128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 patio es magnifico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reionante, y bonit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3000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 Un Jard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Tahoma"/>
              </a:rPr>
              <a:t>í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6" name="" descr=""/>
          <p:cNvPicPr/>
          <p:nvPr/>
        </p:nvPicPr>
        <p:blipFill>
          <a:blip r:embed="rId1"/>
          <a:srcRect l="0" t="0" r="10054" b="12673"/>
          <a:stretch/>
        </p:blipFill>
        <p:spPr>
          <a:xfrm>
            <a:off x="4724280" y="3130560"/>
            <a:ext cx="3959280" cy="2882880"/>
          </a:xfrm>
          <a:prstGeom prst="rect">
            <a:avLst/>
          </a:prstGeom>
          <a:ln w="0">
            <a:noFill/>
          </a:ln>
        </p:spPr>
      </p:pic>
      <p:sp>
        <p:nvSpPr>
          <p:cNvPr id="1127" name=""/>
          <p:cNvSpPr/>
          <p:nvPr/>
        </p:nvSpPr>
        <p:spPr>
          <a:xfrm>
            <a:off x="1600200" y="3200400"/>
            <a:ext cx="25909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 jardín es moderno, bello, y fabulos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3000"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2T13:01:32Z</dcterms:created>
  <dc:creator>gorantlaswa</dc:creator>
  <dc:description/>
  <dc:language>en-US</dc:language>
  <cp:lastModifiedBy>gorantlaswa</cp:lastModifiedBy>
  <dcterms:modified xsi:type="dcterms:W3CDTF">2012-10-26T15:44:07Z</dcterms:modified>
  <cp:revision>7</cp:revision>
  <dc:subject/>
  <dc:title>Mi Magnifico</dc:title>
</cp:coreProperties>
</file>